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9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20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734B-2A82-41BB-9A57-3302B9CC7A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594-D456-40D4-B0D9-63A359500F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AB37-CCD9-44E0-A07B-DC7A7B52CE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43F-9AC1-4F3A-B0B9-8961D12379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F36-B2FD-42BA-B722-056C5D62EA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90F-873B-49B8-A838-1514AF3323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7EC-01ED-406D-831F-33B6E640F3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56E-A87F-4A59-8A0F-8CBBF978BF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49A-1E69-4C33-868C-B362E56BE9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910-8308-4F63-8579-0D4BB725AA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05D-30E1-4F0D-8F0F-C133201E56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A1BD-7589-4B3B-96D3-40A28A8761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086-D8F0-480D-AEAF-48710E6340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D1A-A6BB-4AD7-8997-99891EEF86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282-8E1D-40A2-8DD2-455512BD92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B4C-E1D6-4F3A-B273-D88E2348B0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348E-F509-4442-BD8F-FF954DDA98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9517-6E05-4F9C-B879-658FEA080E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CA0E-6302-4FBE-B116-F5DE7459A9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AE7-17E5-42A1-9C05-1472A35812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139B-2CED-4E8F-8188-466729E76C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D486-B45E-495A-A5D6-51B0CED8CE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90BC-1417-4637-9671-0016EFC3F7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032B-60F9-4CE5-9BD7-7F554DCCCB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7FB2-CB47-4392-818E-02A9EA3A28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784-C024-4C9F-ACB6-199439BF76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AF0-6846-437C-AC39-26C21BEE31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8E5C-D570-420D-BE28-D8207BA188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B033-2F8F-4C27-997F-A1D958AE5C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3CD-30B1-4064-9F56-FBCAFFE2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49D-10A8-46E0-BDB2-83786ABC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BE9-A6BF-444E-BCDA-410984DE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1DB-84E4-4D7D-A41E-9F9475A6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7A8-24D5-46F1-A02B-02A78644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F62-3C08-4A5D-9846-3601DEC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2C8-2E16-4823-A902-3628E38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FA3-897C-4FB9-A4A5-16E670EE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3BC-9C4B-408D-A690-5C0A521B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151-FE81-44F4-BE39-788FA36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7CC-E2F6-4FCC-BE7F-EC59BA8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AF4-4F88-4B60-99DD-08F97F5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ADE-82A0-443F-BA32-B43620CA68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13240" y="4365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us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941720"/>
            <a:ext cx="455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バスて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1857240" y="476280"/>
            <a:ext cx="1527480" cy="559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29240" y="260280"/>
            <a:ext cx="4016520" cy="863640"/>
          </a:xfrm>
          <a:prstGeom prst="wedgeRoundRectCallout">
            <a:avLst>
              <a:gd name="adj1" fmla="val -40472"/>
              <a:gd name="adj2" fmla="val 161212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NtMotoyaKyotai"/>
              </a:rPr>
              <a:t>な～んだ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フリーフォーム 9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リーフォーム 10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フリーフォーム 15"/>
          <p:cNvSpPr/>
          <p:nvPr/>
        </p:nvSpPr>
        <p:spPr>
          <a:xfrm>
            <a:off x="6786720" y="1627200"/>
            <a:ext cx="61884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フリーフォーム 16"/>
          <p:cNvSpPr/>
          <p:nvPr/>
        </p:nvSpPr>
        <p:spPr>
          <a:xfrm>
            <a:off x="6429240" y="198756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フリーフォーム 11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68520" y="1557360"/>
            <a:ext cx="3889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で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118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70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200"/>
                            </p:stCondLst>
                            <p:childTnLst>
                              <p:par>
                                <p:cTn id="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7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126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400"/>
                            </p:stCondLst>
                            <p:childTnLst>
                              <p:par>
                                <p:cTn id="4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900"/>
                            </p:stCondLst>
                            <p:childTnLst>
                              <p:par>
                                <p:cTn id="4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400"/>
                            </p:stCondLst>
                            <p:childTnLst>
                              <p:par>
                                <p:cTn id="4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24520" y="3429000"/>
            <a:ext cx="4316400" cy="323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20880" y="981000"/>
            <a:ext cx="144000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527800">
            <a:off x="7356600" y="3435120"/>
            <a:ext cx="1873080" cy="790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52880" y="508464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び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　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28880" y="4653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81240" y="515772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ビ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　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2576520" y="260280"/>
            <a:ext cx="4567320" cy="45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フリーフォーム 6"/>
          <p:cNvSpPr/>
          <p:nvPr/>
        </p:nvSpPr>
        <p:spPr>
          <a:xfrm>
            <a:off x="3943440" y="2814480"/>
            <a:ext cx="2243160" cy="79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フリーフォーム 4"/>
          <p:cNvSpPr/>
          <p:nvPr/>
        </p:nvSpPr>
        <p:spPr>
          <a:xfrm rot="14400000">
            <a:off x="2104920" y="2808360"/>
            <a:ext cx="4705200" cy="2215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68520" y="1628640"/>
            <a:ext cx="4032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ひ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flipH="1">
            <a:off x="1568520" y="404640"/>
            <a:ext cx="6323040" cy="7748640"/>
          </a:xfrm>
          <a:prstGeom prst="rect">
            <a:avLst/>
          </a:prstGeom>
          <a:ln w="0">
            <a:noFill/>
          </a:ln>
        </p:spPr>
      </p:pic>
      <p:sp>
        <p:nvSpPr>
          <p:cNvPr id="144" name="フリーフォーム 6"/>
          <p:cNvSpPr/>
          <p:nvPr/>
        </p:nvSpPr>
        <p:spPr>
          <a:xfrm>
            <a:off x="3944880" y="2205000"/>
            <a:ext cx="2243160" cy="795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フリーフォーム 4"/>
          <p:cNvSpPr/>
          <p:nvPr/>
        </p:nvSpPr>
        <p:spPr>
          <a:xfrm rot="14400000">
            <a:off x="2106360" y="2198160"/>
            <a:ext cx="4705560" cy="2216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92880" y="260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ヒ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is doing sit –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600"/>
                            </p:stCondLst>
                            <p:childTnLst>
                              <p:par>
                                <p:cTn id="5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100"/>
                            </p:stCondLst>
                            <p:childTnLst>
                              <p:par>
                                <p:cTn id="5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600"/>
                            </p:stCondLst>
                            <p:childTnLst>
                              <p:par>
                                <p:cTn id="5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フリーフォーム 7"/>
          <p:cNvSpPr/>
          <p:nvPr/>
        </p:nvSpPr>
        <p:spPr>
          <a:xfrm>
            <a:off x="6066000" y="1735200"/>
            <a:ext cx="614160" cy="61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フリーフォーム 8"/>
          <p:cNvSpPr/>
          <p:nvPr/>
        </p:nvSpPr>
        <p:spPr>
          <a:xfrm>
            <a:off x="6462720" y="1468440"/>
            <a:ext cx="61920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フリーフォーム 14"/>
          <p:cNvSpPr/>
          <p:nvPr/>
        </p:nvSpPr>
        <p:spPr>
          <a:xfrm>
            <a:off x="3943440" y="2813040"/>
            <a:ext cx="2238120" cy="806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フリーフォーム 13"/>
          <p:cNvSpPr/>
          <p:nvPr/>
        </p:nvSpPr>
        <p:spPr>
          <a:xfrm>
            <a:off x="3666960" y="1650960"/>
            <a:ext cx="2895840" cy="3876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368520" y="1628640"/>
            <a:ext cx="4248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び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お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フリーフォーム 8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11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2"/>
          <p:cNvSpPr/>
          <p:nvPr/>
        </p:nvSpPr>
        <p:spPr>
          <a:xfrm>
            <a:off x="6181560" y="2206800"/>
            <a:ext cx="622440" cy="62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3"/>
          <p:cNvSpPr/>
          <p:nvPr/>
        </p:nvSpPr>
        <p:spPr>
          <a:xfrm>
            <a:off x="6534000" y="185112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65600" y="1700280"/>
            <a:ext cx="41767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6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flipH="1">
            <a:off x="344160" y="0"/>
            <a:ext cx="7775640" cy="6524640"/>
          </a:xfrm>
          <a:prstGeom prst="rect">
            <a:avLst/>
          </a:prstGeom>
          <a:ln w="0">
            <a:noFill/>
          </a:ln>
        </p:spPr>
      </p:pic>
      <p:sp>
        <p:nvSpPr>
          <p:cNvPr id="159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5240" y="6156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legs of a kanga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ル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33cc"/>
                </a:solidFill>
                <a:latin typeface="Kristen ITC"/>
              </a:rPr>
              <a:t>kanga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800"/>
                            </p:stCondLst>
                            <p:childTnLst>
                              <p:par>
                                <p:cTn id="6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300"/>
                            </p:stCondLst>
                            <p:childTnLst>
                              <p:par>
                                <p:cTn id="6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800"/>
                            </p:stCondLst>
                            <p:childTnLst>
                              <p:par>
                                <p:cTn id="6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300"/>
                            </p:stCondLst>
                            <p:childTnLst>
                              <p:par>
                                <p:cTn id="6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1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52880" y="508464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ほ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て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89240" y="4653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ho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52880" y="508464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ホ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テ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12880" y="189000"/>
            <a:ext cx="6262560" cy="4586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65600" y="1844640"/>
            <a:ext cx="39589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ほ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75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961240" y="3789360"/>
            <a:ext cx="888840" cy="162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49600" y="4005360"/>
            <a:ext cx="1371600" cy="1722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576520" y="836640"/>
            <a:ext cx="4576680" cy="5256360"/>
          </a:xfrm>
          <a:prstGeom prst="rect">
            <a:avLst/>
          </a:prstGeom>
          <a:ln w="0">
            <a:noFill/>
          </a:ln>
        </p:spPr>
      </p:pic>
      <p:sp>
        <p:nvSpPr>
          <p:cNvPr id="179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not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ot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when you sit in the sh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68520" y="1890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ホ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000"/>
                            </p:stCondLst>
                            <p:childTnLst>
                              <p:par>
                                <p:cTn id="7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フリーフォーム 5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フリーフォーム 6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フリーフォーム 8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65600" y="1700280"/>
            <a:ext cx="395892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て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90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フリーフォーム 5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フリーフォーム 6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フリーフォーム 8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18546600">
            <a:off x="3530520" y="1323720"/>
            <a:ext cx="4070160" cy="4969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81240" y="2602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テ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levision ant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2880" y="5805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looks like a 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evision anten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100"/>
                            </p:stCondLst>
                            <p:childTnLst>
                              <p:par>
                                <p:cTn id="7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600"/>
                            </p:stCondLst>
                            <p:childTnLst>
                              <p:par>
                                <p:cTn id="7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100"/>
                            </p:stCondLst>
                            <p:childTnLst>
                              <p:par>
                                <p:cTn id="7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865600" y="1700280"/>
            <a:ext cx="41767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flipH="1">
            <a:off x="344160" y="0"/>
            <a:ext cx="7775640" cy="6524640"/>
          </a:xfrm>
          <a:prstGeom prst="rect">
            <a:avLst/>
          </a:prstGeom>
          <a:ln w="0">
            <a:noFill/>
          </a:ln>
        </p:spPr>
      </p:pic>
      <p:sp>
        <p:nvSpPr>
          <p:cNvPr id="202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5240" y="6156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legs of a kanga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88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ル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33cc"/>
                </a:solidFill>
                <a:latin typeface="Kristen ITC"/>
              </a:rPr>
              <a:t>kanga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800"/>
                            </p:stCondLst>
                            <p:childTnLst>
                              <p:par>
                                <p:cTn id="8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300"/>
                            </p:stCondLst>
                            <p:childTnLst>
                              <p:par>
                                <p:cTn id="8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800"/>
                            </p:stCondLst>
                            <p:childTnLst>
                              <p:par>
                                <p:cTn id="8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3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880" y="508464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ぽす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3216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81240" y="515772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ポス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12880" y="260280"/>
            <a:ext cx="5268960" cy="454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4520" y="189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ot really new Katakana, but one kind of ne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58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7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2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70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フリーフォーム 8"/>
          <p:cNvSpPr/>
          <p:nvPr/>
        </p:nvSpPr>
        <p:spPr>
          <a:xfrm rot="1200000">
            <a:off x="6536880" y="1915920"/>
            <a:ext cx="424080" cy="39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フリーフォーム 7"/>
          <p:cNvSpPr/>
          <p:nvPr/>
        </p:nvSpPr>
        <p:spPr>
          <a:xfrm rot="1200000">
            <a:off x="6681600" y="1483920"/>
            <a:ext cx="42372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フリーフォーム 10"/>
          <p:cNvSpPr/>
          <p:nvPr/>
        </p:nvSpPr>
        <p:spPr>
          <a:xfrm rot="1200000">
            <a:off x="7040160" y="162864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フリーフォーム 11"/>
          <p:cNvSpPr/>
          <p:nvPr/>
        </p:nvSpPr>
        <p:spPr>
          <a:xfrm rot="1200000">
            <a:off x="6904080" y="2042640"/>
            <a:ext cx="43956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68520" y="1628640"/>
            <a:ext cx="388944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ぽ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222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お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4000"/>
                            </p:stCondLst>
                            <p:childTnLst>
                              <p:par>
                                <p:cTn id="8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500"/>
                            </p:stCondLst>
                            <p:childTnLst>
                              <p:par>
                                <p:cTn id="9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500"/>
                            </p:stCondLst>
                            <p:childTnLst>
                              <p:par>
                                <p:cTn id="9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7000"/>
                            </p:stCondLst>
                            <p:childTnLst>
                              <p:par>
                                <p:cTn id="9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61240" y="3789360"/>
            <a:ext cx="888840" cy="1628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649600" y="4005360"/>
            <a:ext cx="1371600" cy="1722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576520" y="836640"/>
            <a:ext cx="4576680" cy="5256360"/>
          </a:xfrm>
          <a:prstGeom prst="rect">
            <a:avLst/>
          </a:prstGeom>
          <a:ln w="0">
            <a:noFill/>
          </a:ln>
        </p:spPr>
      </p:pic>
      <p:sp>
        <p:nvSpPr>
          <p:cNvPr id="226" name="フリーフォーム 7"/>
          <p:cNvSpPr/>
          <p:nvPr/>
        </p:nvSpPr>
        <p:spPr>
          <a:xfrm rot="19800000">
            <a:off x="3285720" y="2155680"/>
            <a:ext cx="3100320" cy="1606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フリーフォーム 11"/>
          <p:cNvSpPr/>
          <p:nvPr/>
        </p:nvSpPr>
        <p:spPr>
          <a:xfrm>
            <a:off x="3060720" y="3868560"/>
            <a:ext cx="677880" cy="134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フリーフォーム 14"/>
          <p:cNvSpPr/>
          <p:nvPr/>
        </p:nvSpPr>
        <p:spPr>
          <a:xfrm>
            <a:off x="5853240" y="3751200"/>
            <a:ext cx="1012680" cy="1241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フリーフォーム 18"/>
          <p:cNvSpPr/>
          <p:nvPr/>
        </p:nvSpPr>
        <p:spPr>
          <a:xfrm rot="18000000">
            <a:off x="3028680" y="2607840"/>
            <a:ext cx="358956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フリーフォーム 17"/>
          <p:cNvSpPr/>
          <p:nvPr/>
        </p:nvSpPr>
        <p:spPr>
          <a:xfrm rot="18000000">
            <a:off x="4296600" y="4879080"/>
            <a:ext cx="474480" cy="898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not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ot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when you sit in the sh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8520" y="1890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ホ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500"/>
                            </p:stCondLst>
                            <p:childTnLst>
                              <p:par>
                                <p:cTn id="9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0"/>
                            </p:stCondLst>
                            <p:childTnLst>
                              <p:par>
                                <p:cTn id="9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500"/>
                            </p:stCondLst>
                            <p:childTnLst>
                              <p:par>
                                <p:cTn id="9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6000"/>
                            </p:stCondLst>
                            <p:childTnLst>
                              <p:par>
                                <p:cTn id="9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6100"/>
                            </p:stCondLst>
                            <p:childTnLst>
                              <p:par>
                                <p:cTn id="10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6600"/>
                            </p:stCondLst>
                            <p:childTnLst>
                              <p:par>
                                <p:cTn id="10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248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400"/>
                            </p:stCondLst>
                            <p:childTnLst>
                              <p:par>
                                <p:cTn id="10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900"/>
                            </p:stCondLst>
                            <p:childTnLst>
                              <p:par>
                                <p:cTn id="10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07920"/>
          <a:ext cx="9906120" cy="543096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0600"/>
                <a:gridCol w="658800"/>
                <a:gridCol w="662040"/>
                <a:gridCol w="660240"/>
                <a:gridCol w="658800"/>
                <a:gridCol w="660600"/>
                <a:gridCol w="661680"/>
                <a:gridCol w="658800"/>
                <a:gridCol w="660600"/>
                <a:gridCol w="660240"/>
                <a:gridCol w="662040"/>
                <a:gridCol w="658800"/>
                <a:gridCol w="66060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ア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イ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ゆ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ウ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99"/>
                          </a:solidFill>
                          <a:latin typeface="Calibri"/>
                          <a:ea typeface="NtMotoyaKyotai"/>
                        </a:rPr>
                        <a:t>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99"/>
                          </a:solidFill>
                          <a:latin typeface="Calibri"/>
                          <a:ea typeface="NtMotoyaKyotai"/>
                        </a:rPr>
                        <a:t>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99"/>
                          </a:solidFill>
                          <a:latin typeface="Calibri"/>
                          <a:ea typeface="NtMotoyaKyotai"/>
                        </a:rPr>
                        <a:t>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お　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603252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61240" y="443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8520" y="2276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3240" y="443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44880" y="2276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165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13240" y="44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68520" y="22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4960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16520" y="54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20880" y="54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0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2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5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7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5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9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0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2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4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5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7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9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6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1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6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1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6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6176880" y="407664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テキスト プレースホルダ 2" descr=""/>
          <p:cNvPicPr/>
          <p:nvPr/>
        </p:nvPicPr>
        <p:blipFill>
          <a:blip r:embed="rId2"/>
          <a:stretch/>
        </p:blipFill>
        <p:spPr>
          <a:xfrm>
            <a:off x="34452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75" name="テキスト プレースホルダ 2" descr=""/>
          <p:cNvPicPr/>
          <p:nvPr/>
        </p:nvPicPr>
        <p:blipFill>
          <a:blip r:embed="rId3"/>
          <a:stretch/>
        </p:blipFill>
        <p:spPr>
          <a:xfrm>
            <a:off x="560520" y="54936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73724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クリックすると新しいウィンドウで開きます"/>
          <p:cNvPicPr/>
          <p:nvPr/>
        </p:nvPicPr>
        <p:blipFill>
          <a:blip r:embed="rId5"/>
          <a:stretch/>
        </p:blipFill>
        <p:spPr>
          <a:xfrm>
            <a:off x="3819600" y="3500280"/>
            <a:ext cx="2203200" cy="2940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6160" y="1773360"/>
            <a:ext cx="50508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5240" y="1989000"/>
            <a:ext cx="50472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0160" y="5805360"/>
            <a:ext cx="50472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6160" y="5013360"/>
            <a:ext cx="72072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53240" y="4724280"/>
            <a:ext cx="1224000" cy="64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24160" y="1989000"/>
            <a:ext cx="504720" cy="5032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5240" y="2708280"/>
            <a:ext cx="433440" cy="360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05240" y="3716280"/>
            <a:ext cx="504720" cy="28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28880" y="1916280"/>
            <a:ext cx="504720" cy="50292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5960" y="765000"/>
            <a:ext cx="505080" cy="5032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81240" y="508464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で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ぱー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36880" y="4653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department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8160" y="5157720"/>
            <a:ext cx="455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デ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パー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49600" y="189000"/>
            <a:ext cx="4533840" cy="455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フリーフォーム 5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フリーフォーム 6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フリーフォーム 8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65600" y="1700280"/>
            <a:ext cx="395892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て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18546600">
            <a:off x="3530520" y="1323720"/>
            <a:ext cx="4070160" cy="4969080"/>
          </a:xfrm>
          <a:prstGeom prst="rect">
            <a:avLst/>
          </a:prstGeom>
          <a:ln w="0">
            <a:noFill/>
          </a:ln>
        </p:spPr>
      </p:pic>
      <p:sp>
        <p:nvSpPr>
          <p:cNvPr id="99" name="フリーフォーム 5"/>
          <p:cNvSpPr/>
          <p:nvPr/>
        </p:nvSpPr>
        <p:spPr>
          <a:xfrm>
            <a:off x="3684600" y="1800360"/>
            <a:ext cx="2205000" cy="623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フリーフォーム 6"/>
          <p:cNvSpPr/>
          <p:nvPr/>
        </p:nvSpPr>
        <p:spPr>
          <a:xfrm>
            <a:off x="2997360" y="2851200"/>
            <a:ext cx="3921120" cy="847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フリーフォーム 8"/>
          <p:cNvSpPr/>
          <p:nvPr/>
        </p:nvSpPr>
        <p:spPr>
          <a:xfrm rot="18000000">
            <a:off x="2980440" y="4289760"/>
            <a:ext cx="3043080" cy="736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1240" y="2602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テ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levision ant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2880" y="5805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looks like a 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evision anten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100"/>
                            </p:stCondLst>
                            <p:childTnLst>
                              <p:par>
                                <p:cTn id="3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600"/>
                            </p:stCondLst>
                            <p:childTnLst>
                              <p:par>
                                <p:cTn id="3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600"/>
                            </p:stCondLst>
                            <p:childTnLst>
                              <p:par>
                                <p:cTn id="3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10-03-03T02:24:10Z</dcterms:modified>
  <cp:revision>71</cp:revision>
  <dc:subject/>
  <dc:title>スライド 1</dc:title>
</cp:coreProperties>
</file>